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3CC-84B1-4D86-A6A9-1B9BC192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558-69E5-45CB-A9AE-D6127872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0A9-26E0-4D5F-ADD6-353A321F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352-93C8-4C1E-8FB2-7F43687E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47EA-A584-43EC-97A9-9B889F3F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3ED7-5B1E-466B-A153-3C4D7E92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AE50-FF96-42AF-8BE1-C610978F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50B2-0DE9-4F48-B93C-0BE2A99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271F-0C84-4095-92F2-B155BEC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AB04-A18C-4AC5-80E6-B8322747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6B98-0C7F-441A-A49C-ABBCED30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7EE-9C35-4866-A305-5ECC19FF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3D99-05B8-4E0A-A49C-981B9CA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C403-565B-40AB-9941-64411F45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1412-1A0D-4BAA-B635-CEA7951B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36F9-3B35-4B87-A481-015562FA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0F67-41A7-4106-9212-1F468D57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82A4-1A2A-4839-941B-C77FB224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80EE-4323-483D-B870-3125721C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CA8C-CB81-4FFA-8BBB-BD83A604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6DA7-1878-4A1C-B7E1-9504D7C7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783D-EE4B-4637-94BA-CF687CFB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235-14C2-4F91-ABD8-EF1C9259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213A-3450-4890-8236-870162E5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DCDC-45E8-4923-A89E-11E4CC27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5D68-9F9D-4430-95BD-0142B7F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B3BD-E220-45B3-8AF3-57F1CAD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BBE0-6DC9-4CF3-BF1D-16546DCA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A106-75F2-4B61-9686-626A27BA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22EF-4FC1-4BE0-85CF-CA739CD6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1004-AE25-4837-8925-A52D6E74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2640-6E7F-4439-BA37-A423A36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FE5A-6279-4C5A-A6B9-5A61AB9A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172-D10B-419B-8446-E091A2AF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6AB9-FAD8-48EF-86F9-0B8A8F48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A788-2815-47E1-8362-6BD21BD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610A7-4669-4AC3-A8DA-A6DDFB8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BF85-0F12-41C7-8840-713C4E73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4DF13-706D-4F8B-9C3C-95A8EE0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84B7-C633-4603-8B1B-5F99622D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7F13-00C5-4BE2-9F0D-4B56518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53F3-2F2D-46E0-98F9-85F4A505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64CF-87B1-4317-ADB6-2801BDAD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E5A-2EF2-4038-BDAD-FBFA38C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07D-1C82-427C-BF9C-CA6E226D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EA4-D1C0-4277-BED5-DAC1ADC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899-185F-43A7-B32A-701AC9A7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058-F84B-4257-A5DC-324847B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9924-0104-4200-89DC-1A36C0D2EF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A209-254F-4BEE-A7B4-A6220F6A481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AA71-931F-4F7F-AE02-D0B08CE10A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31D7-F4D6-4CCB-BA5D-DB20041B3BF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loring the Correspondence Concept and the Importance of Transfe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is our Discipline? What Does it Mean to Be An “Expert” in Our Discipline?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l in the blanks for the following Stem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be a scholar of English is to ________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be a student of English requires students to ________________ about ____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need to study English because _______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chose to teach English because I feel it helps students 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Correspondence Concep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2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3152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English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rpose:  to develop an understanding of how we define our discipline in order to apply the Correspondence Concept in our lesson and 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cess:  Create a visual representation of the essential elements of English as a discipline and how they are related to one another.  Please include the follow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r proposed title for the discip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verall main idea/purpose of the discip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key components that are essential parts of the main idea/purpo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ymbolic representation that reveals the relationships among the three items abo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ilhelm on the Correspondence Concep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ty of practice— “discipline-based practic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cedural Knowledge—strategic practices to solve open problems in a discipline (transferable ski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Heuristics—learning as part of problem-solving reperto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 Questions—big and enduring questions that organize disciplinary conversatio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terature as a means of thinking about life and ourselv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Importance of Trans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idence of understanding that is transferable involves assessing for students’ capacity to use their knowledge thoughtfully and to apply it effectively in diverse settings—that is, to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o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ubject” (Wiggins and McTighe 48)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requi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plicit instruction on how to transf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vel assessments that constantly demand such transf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ow-road” and “High-road” transf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Importance of “The Why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 to Rememb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does what I am teaching matter right now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it count for readers, writers, problem solvers, workers and citizens of a democrac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Wilhelm and Smith, 20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ere Are We Headed Nex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Goals and Externally Imposed Go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295280" y="2895480"/>
            <a:ext cx="2743200" cy="1905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A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876920" y="2895480"/>
            <a:ext cx="2743200" cy="1905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AN’T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Next Cla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and consider State Standards for your grad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“History of English Teaching” and UBD ch.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THREE copies of curriculum and district standards for your grade level (email document or link to me by Thursday @ 3:00 if printing three copies is an issu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2:15:51Z</dcterms:created>
  <dc:creator>Phil Bear</dc:creator>
  <dc:description/>
  <dc:language>en-US</dc:language>
  <cp:lastModifiedBy>Phil Bear</cp:lastModifiedBy>
  <dcterms:modified xsi:type="dcterms:W3CDTF">2011-02-01T03:06:57Z</dcterms:modified>
  <cp:revision>6</cp:revision>
  <dc:subject/>
  <dc:title>What is Understanding?</dc:title>
</cp:coreProperties>
</file>